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0AE2-34BB-4646-B481-F6526029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6619-E20B-4528-9DCD-AD51C54B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3711-5BE0-40AF-B22C-C7966022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C5C5-57FB-439C-8D54-FA282F73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157F-FE1F-4E40-B7FB-F1A7E46E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ACE4-5A53-4E2D-806B-1C4B136E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DC46-871F-43BA-A819-BA9BFF24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5EB1-E7D3-4601-9460-EE52ED24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942C-3EC3-437B-A8C8-4671FBE1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1830-0EEF-4B21-BED4-576A44E1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B9C3-583D-4029-A7AD-F6F0F297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BB0C-6862-4798-B576-A2A018D2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6B58-4038-439B-B7FB-89B8A7ED6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9092" t="8721" r="7881" b="11873"/>
          <a:stretch/>
        </p:blipFill>
        <p:spPr>
          <a:xfrm>
            <a:off x="914400" y="457200"/>
            <a:ext cx="76104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820960" y="2133720"/>
            <a:ext cx="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147320" y="1981080"/>
            <a:ext cx="167580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this trace at “X”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rt R27 (150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reeform 20"/>
          <p:cNvSpPr/>
          <p:nvPr/>
        </p:nvSpPr>
        <p:spPr>
          <a:xfrm>
            <a:off x="3757680" y="2022480"/>
            <a:ext cx="434880" cy="295200"/>
          </a:xfrm>
          <a:custGeom>
            <a:avLst/>
            <a:gdLst/>
            <a:ahLst/>
            <a:rect l="l" t="t" r="r" b="b"/>
            <a:pathLst>
              <a:path w="433953" h="294467">
                <a:moveTo>
                  <a:pt x="0" y="0"/>
                </a:moveTo>
                <a:cubicBezTo>
                  <a:pt x="58764" y="101385"/>
                  <a:pt x="117528" y="202770"/>
                  <a:pt x="178230" y="247973"/>
                </a:cubicBezTo>
                <a:cubicBezTo>
                  <a:pt x="238932" y="293176"/>
                  <a:pt x="321590" y="294467"/>
                  <a:pt x="364210" y="271220"/>
                </a:cubicBezTo>
                <a:cubicBezTo>
                  <a:pt x="406830" y="247973"/>
                  <a:pt x="433953" y="108488"/>
                  <a:pt x="433953" y="108488"/>
                </a:cubicBezTo>
                <a:lnTo>
                  <a:pt x="433953" y="10848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reeform 21"/>
          <p:cNvSpPr/>
          <p:nvPr/>
        </p:nvSpPr>
        <p:spPr>
          <a:xfrm>
            <a:off x="3743280" y="1398600"/>
            <a:ext cx="457200" cy="453960"/>
          </a:xfrm>
          <a:custGeom>
            <a:avLst/>
            <a:gdLst/>
            <a:ahLst/>
            <a:rect l="l" t="t" r="r" b="b"/>
            <a:pathLst>
              <a:path w="457200" h="453325">
                <a:moveTo>
                  <a:pt x="0" y="453325"/>
                </a:moveTo>
                <a:cubicBezTo>
                  <a:pt x="63930" y="309320"/>
                  <a:pt x="127860" y="165315"/>
                  <a:pt x="193728" y="96864"/>
                </a:cubicBezTo>
                <a:cubicBezTo>
                  <a:pt x="259596" y="28413"/>
                  <a:pt x="352586" y="0"/>
                  <a:pt x="395206" y="42620"/>
                </a:cubicBezTo>
                <a:cubicBezTo>
                  <a:pt x="437827" y="85240"/>
                  <a:pt x="441702" y="300925"/>
                  <a:pt x="449451" y="352586"/>
                </a:cubicBezTo>
                <a:cubicBezTo>
                  <a:pt x="457200" y="404247"/>
                  <a:pt x="436535" y="396498"/>
                  <a:pt x="441701" y="35258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4038480" y="1752480"/>
            <a:ext cx="304920" cy="381240"/>
            <a:chOff x="4038480" y="1752480"/>
            <a:chExt cx="304920" cy="381240"/>
          </a:xfrm>
        </p:grpSpPr>
        <p:sp>
          <p:nvSpPr>
            <p:cNvPr id="47" name="Rounded Rectangle 13"/>
            <p:cNvSpPr/>
            <p:nvPr/>
          </p:nvSpPr>
          <p:spPr>
            <a:xfrm>
              <a:off x="4038480" y="1752480"/>
              <a:ext cx="304920" cy="38124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381240"/>
                <a:gd name="textAreaBottom" fmla="*/ 366480 h 381240"/>
              </a:gdLst>
              <a:ahLst/>
              <a:rect l="textAreaLeft" t="textAreaTop" r="textAreaRight" b="textAreaBottom"/>
              <a:pathLst>
                <a:path w="21600" h="27000">
                  <a:moveTo>
                    <a:pt x="3600" y="0"/>
                  </a:moveTo>
                  <a:arcTo wR="3600" hR="3600" stAng="16200000" swAng="-5400000"/>
                  <a:lnTo>
                    <a:pt x="0" y="23400"/>
                  </a:lnTo>
                  <a:arcTo wR="3600" hR="3600" stAng="10800000" swAng="-5400000"/>
                  <a:lnTo>
                    <a:pt x="18000" y="270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Isosceles Triangle 11"/>
            <p:cNvSpPr/>
            <p:nvPr/>
          </p:nvSpPr>
          <p:spPr>
            <a:xfrm flipV="1">
              <a:off x="4114440" y="185004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Rectangle 12"/>
            <p:cNvSpPr/>
            <p:nvPr/>
          </p:nvSpPr>
          <p:spPr>
            <a:xfrm>
              <a:off x="4114440" y="2003400"/>
              <a:ext cx="152280" cy="457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TextBox 22"/>
          <p:cNvSpPr/>
          <p:nvPr/>
        </p:nvSpPr>
        <p:spPr>
          <a:xfrm>
            <a:off x="4429440" y="1523880"/>
            <a:ext cx="205056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rt D13 (1N4148) as sh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J7 Pin 1 and J7 Pin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6:19:25Z</dcterms:created>
  <dc:creator>Soph Lab</dc:creator>
  <dc:description/>
  <dc:language>en-US</dc:language>
  <cp:lastModifiedBy>Soph Lab</cp:lastModifiedBy>
  <dcterms:modified xsi:type="dcterms:W3CDTF">2010-04-07T16:38:56Z</dcterms:modified>
  <cp:revision>2</cp:revision>
  <dc:subject/>
  <dc:title>Slide 1</dc:title>
</cp:coreProperties>
</file>